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glass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76F-88B2-4809-88F3-2D0C8FBF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F01-79AC-4A23-8713-F11D5261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1C4-236F-430B-A5A4-097125B5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314-3A70-4903-B1CE-232C7242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EA8-158C-4EA7-BB81-69640B9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C9E-A3F4-429F-A36E-62CC6828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3C4-4DC6-46BA-BADC-0703E509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B5F8-CB7C-4ECB-98C4-E8470E28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B4A9-25FC-4BDC-AACB-12CDDA8E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633-040E-42EA-B4C5-5F7B825D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0B3-E020-47B0-A151-5716CD25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2F9-798A-4954-B498-7EE29526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8CB-EA89-4872-BFE3-1447CB01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1  Models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 – came up with the energy levels where the elec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19320" y="2209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stated the lower energy levels were the weakest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move away from nucleus, they get str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219320" y="2895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proposed an e- could jump between energy levels if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ed or lost the right amount of energy to do 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600200" y="37339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right amount of energy needed to move the 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ne level to another is called 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295280" y="4419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ount of energy an e- gains or loses not always the s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takes more energy to move e- in the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than the higher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3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5228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Spectr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1523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toms absorb energy, they electrons jump to a higher energy level and as they lose energy and return to the lower energy level they emit the energy in the form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Neon Light in a gas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3200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specific frequency of visible light has its own particular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09480" y="3886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we use a prisim, we can see the frequencies of light emitted by an element separate into distinct lines = atomic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66680" y="5029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line in the spectrum corresponds to 1 frequenc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2 elements have the same emission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76520" y="1143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how two snowflakes are not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080" y="1523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mission spectrum useful to study the stars’ make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80880" y="2057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’s model also hypothesized that electrons can jump to higher energy levels. (hydrogen atom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85800" y="2895480"/>
            <a:ext cx="815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lectron in its lowest energy level = ground state (quantum # (n)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he electron gets excited (not that way silly   )  the atom jumps to the excited stage with the n = 2, 3, 4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693432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5800" y="4495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 smarty pants, when is the light given off?  When the electron goes down an energ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calculate how much electronic transition (jumping from/to energy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71600" y="1295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 (h is constant = 6.626 x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-3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18288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given off by an electron moving from a higher to a lower energy level has a frequency directly proportional to the energy change of the elec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66680" y="3124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is why each transition makes a line of a specific frequency in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39625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28600" y="3886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520" y="43434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stein says that light is explained as quanta of energy (behave as wave particles)  =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De Broglie uses the idea of light particles traveling in waves to describe how all matter trave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676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ical Mechanics vs. Quantum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133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lassical deals with describing the motion of large bodies  and quantum describes the motion of subatomic particles and atoms as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8580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isenberg = can’t find the exact velocity and position of a particle at the same time (like electr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143000" y="40384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y?  Because the mass is so small that when struck by a photon it affects its motion in a way that is not predictable.  Therefore, just trying to determine the position changes its veloc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66680" y="1371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rodinger respo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666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exact path e-’s take around the nucleus, but there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like in Bohr’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06668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del determines how much energy an e- can ha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of finding the e- in various lo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- move in orbitals also called atomic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06668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energy level has sub-levels within it and each of th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levels have their ow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rbital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s_orbit.gif"/>
          <p:cNvPicPr/>
          <p:nvPr/>
        </p:nvPicPr>
        <p:blipFill>
          <a:blip r:embed="rId1"/>
          <a:stretch/>
        </p:blipFill>
        <p:spPr>
          <a:xfrm>
            <a:off x="1644480" y="15238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xy_orbit.gif"/>
          <p:cNvPicPr/>
          <p:nvPr/>
        </p:nvPicPr>
        <p:blipFill>
          <a:blip r:embed="rId2"/>
          <a:stretch/>
        </p:blipFill>
        <p:spPr>
          <a:xfrm>
            <a:off x="1828800" y="3429000"/>
            <a:ext cx="8730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x_orbit.gif"/>
          <p:cNvPicPr/>
          <p:nvPr/>
        </p:nvPicPr>
        <p:blipFill>
          <a:blip r:embed="rId3"/>
          <a:stretch/>
        </p:blipFill>
        <p:spPr>
          <a:xfrm>
            <a:off x="1752480" y="2438280"/>
            <a:ext cx="874800" cy="838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8195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sphere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895480" y="2590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dumbbell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95480" y="3581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clover leaf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057400" y="4343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bital – no definit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90720" y="1371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er:  each energy level has a principal energy leve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, etc) AND each level has the same number of sublevels as it has energy levels (see notes from last un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762120" y="23623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fbau Principle: electrons occupy the orbitals of the low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first (figure 5.7 pg 1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aufbau.jpg"/>
          <p:cNvPicPr/>
          <p:nvPr/>
        </p:nvPicPr>
        <p:blipFill>
          <a:blip r:embed="rId1"/>
          <a:stretch/>
        </p:blipFill>
        <p:spPr>
          <a:xfrm>
            <a:off x="3124080" y="3048120"/>
            <a:ext cx="28195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guide 4-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04920" y="99072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ufbau diagram (principle) can be used to show how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 fill the orbitals of equal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one electron enters each orbital until all the orbit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 one electron with the same spin 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09480" y="274320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tomic orbital may describe at most two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1 or 2 electrons can occupy an s orbital or a p orbital.  For 2 electrons to occupy the same orbital, they have must have opposite spins (or paired s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 = property of electrons, may be thought of as clockwise and counter clockwise. (shown by arrow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74674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76960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5335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nd’s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electrons occupy orbitals of the same energy in a way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s the number of electrons with the same sp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as large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228600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X:  3 electrons occupy three orbitals of equal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electrons then pair up and fill each orb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9072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722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6576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1295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905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396252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4956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72388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5308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-3 Noteguide  Physics and Quanta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52280" y="106668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 came from the stud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ewton thought it was because light consisted of particle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2280" y="19810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52280" y="19051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86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ater it was confirmed light comes in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236232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complete wave cycle starts at zero to reach its lowest value and returns to 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plitude of wave = waves height from zero to 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80880" y="365760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(λ) = distance between c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requency (ν) = # of wave cycles to pass a given point per unit of time.  Measured in cylces per second = hertz (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calculate frequency and waveleng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3808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= λ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1523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velength and frequency of light are inversely proportional to each other.  (As one increases, the other decre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9480" y="266688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consists of electromagnetic waves (rad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cludes radio waves, microwaves, infrared waves, visible light, ultraviolet waves, X-rays, and gamma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electromagnetic waves travel in a vacuum at a spee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9a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 =  sunlight passes through a prisim and the different frequencies separate into a rainbow of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H:\chemistry\spectrum 001.jpg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2:28:44Z</dcterms:created>
  <dc:creator>jpak</dc:creator>
  <dc:description/>
  <dc:language>en-US</dc:language>
  <cp:lastModifiedBy>Customer</cp:lastModifiedBy>
  <dcterms:modified xsi:type="dcterms:W3CDTF">2009-10-26T18:15:24Z</dcterms:modified>
  <cp:revision>21</cp:revision>
  <dc:subject/>
  <dc:title>Noteguide 4-2 continued</dc:title>
</cp:coreProperties>
</file>